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F68-F956-43AF-A5D1-FF0C90F6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CE2-946E-4C06-8E5F-FFD9A84A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536-C38F-46F8-87CB-690D738A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289-8B07-48C8-91F4-E54EC0C2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036-82BC-467F-91FF-358D3206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CC5C-57DD-47EE-B075-C6A84A6D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74EC-0505-4AC2-9B0D-FC05DEF7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D2FA-9B48-4236-8317-125200E5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7A8C-2F9C-4660-B3BA-AA88C96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4F0E-CFB5-499F-A0C9-2BA0C223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EEFA-3EE0-4815-9469-0399716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F31-7F64-4128-8DFA-A3928153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3B4E-EAE0-41CE-8721-5393D2D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D9D9-547E-4C67-B3AE-733F1735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3DB5-5EAD-4452-AB67-19F0F720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1DFC-657F-4B2B-9D9A-718ED706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DBCA-9C28-43F9-95B2-96C8EAB1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C69-B533-4BA7-8D8F-99201445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767-7942-4D55-96C2-07E81BEB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5F2-2813-44A9-908A-57535AD6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6D5-B1A0-45AD-88AD-3E336C85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20D-93FF-4EF1-8068-7499EB8E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7E7-E091-4AAD-A529-6DAE54D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39D-456F-4222-8EE7-1079069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96DA-5FA7-4CFE-BB38-642ADFA19B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6EFD-D552-4A04-805F-ACAA9C2DB9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BIG SIX : </a:t>
            </a:r>
            <a:br>
              <a:rPr sz="4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ot knowing some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19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43828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2590920"/>
            <a:ext cx="44197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274320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057040" y="28954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40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2514600"/>
            <a:ext cx="289548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495680" y="2514600"/>
            <a:ext cx="7632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514240" y="251460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495680" y="3124080"/>
            <a:ext cx="152424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90560" y="3124080"/>
            <a:ext cx="342900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2895120" y="2590560"/>
            <a:ext cx="312444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590560" y="4191120"/>
            <a:ext cx="48006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2895120" y="2743200"/>
            <a:ext cx="449604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819160" y="2742840"/>
            <a:ext cx="16002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ow does this relate to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arching for information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66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83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01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20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96080" y="3429000"/>
            <a:ext cx="1447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inf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n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40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96080" y="3429000"/>
            <a:ext cx="1447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inf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n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5562720"/>
            <a:ext cx="2362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est use of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at info is usefu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61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3429000"/>
            <a:ext cx="1447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inf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n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5562720"/>
            <a:ext cx="2362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est use of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at info is usefu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548640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Organize &amp; synthe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83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05520" y="12193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a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rmation need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162920" y="220968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ossible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The be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3429000"/>
            <a:ext cx="1447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re’s inf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in sour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81680" y="5562720"/>
            <a:ext cx="2362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est use of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at info is usefu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48640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Organize &amp; synthe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1523880"/>
            <a:ext cx="1447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s task do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ett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Searching for information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lik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HUNTING FOR TREASU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go on a treasure hu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, Skimming, Taking notes, Interviewing, Index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Table of contents, Captions, Charts and graph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Copyright issues, Plagiarism, Matching info with need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, Skimming, Taking notes, Interviewing, Index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Table of contents, Captions, Charts and graph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Copyright issues, Plagiarism, Matching info with need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the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, Skimming, Taking notes, Interviewing, Index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Table of contents, Captions, Charts and graph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Copyright issues, Plagiarism, Matching info with need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thesiz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point, Word processing, Posters, Images, Six traits of writing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Bibliographies, Oral present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IG SIX :</a:t>
            </a:r>
            <a:br>
              <a:rPr sz="35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formation Problem-Solving Skill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ask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ources?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yclopedias, Articles, Non-fiction books, Peopl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Websites, Organiz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sour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Pioneer, Using library catalog, Evaluating web sit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, Skimming, Taking notes, Interviewing, Index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Table of contents, Captions, Charts and graph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Copyright issues, Plagiarism, Matching info with need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thesiz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point, Word processing, Posters, Images, Six traits of writing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Bibliographies, Oral presenta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55760" y="1822320"/>
            <a:ext cx="580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057400"/>
            <a:ext cx="55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need fir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75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88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easure Hu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733920" y="51055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896760" cy="1446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15238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1143000" y="457200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3276720" y="6019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02" name="Cloud"/>
          <p:cNvSpPr/>
          <p:nvPr/>
        </p:nvSpPr>
        <p:spPr>
          <a:xfrm>
            <a:off x="4952880" y="551016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1676520" y="1828800"/>
            <a:ext cx="1136520" cy="1192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181480" y="1981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3505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410080" y="4648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285640" y="4952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97180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4:56:51Z</dcterms:created>
  <dc:creator>OHMS</dc:creator>
  <dc:description/>
  <dc:language>en-US</dc:language>
  <cp:lastModifiedBy>OHMS</cp:lastModifiedBy>
  <dcterms:modified xsi:type="dcterms:W3CDTF">2009-01-21T17:13:58Z</dcterms:modified>
  <cp:revision>6</cp:revision>
  <dc:subject/>
  <dc:title>The BIG SIX :  Information Problem-Solving Skills</dc:title>
</cp:coreProperties>
</file>